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E421-476E-48B4-AC4F-DC5B00BA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3B66-46AD-4542-9CEE-CBEEE445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F1F9-D26F-4907-9CCF-B57A255C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55C3-5BC3-47E8-A913-012DA1602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77963-00ED-4CBB-BC22-D283E001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8043A-D5F2-4174-8473-BFACE2AD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8A621-0395-49A6-91DE-FA38632F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68928-E849-40B5-8A78-2CEA4383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0BDC1-6B70-4751-8347-B6CDBA8B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94E3B-FB30-497C-B0B2-CEFE4416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541DE-98C6-4927-9B73-9C1E23DD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1725-B973-4B2E-A472-EE81523E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22CB5-ED17-4959-A183-B9705E20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65CA9-3709-4746-90EC-F9FCECBD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76F99-311E-4118-8B95-9F987AAB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36D07-4147-4D71-A124-BF2A351A0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4C900-00BC-49E0-AAB9-A0286F44A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331F-62F5-4478-82CF-62E1BC8A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0D05-1689-45DC-A760-6413C16D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1797-479C-4A3B-B2E0-2F5C6D8C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062B-4D78-47F2-AB7B-5E47BB6B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EB03-B635-40AD-8044-4F65E22B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8AA4-92FC-491F-9380-5C03EA63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2243-DB2F-4853-A284-447FFF7E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6521-7901-47C6-8C61-64D8C2B9AD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E8DE-737B-4BB4-BAC3-4E9E7F3E4C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www.50states.com/colorado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postcardsfrom.com/t1/990816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880" y="5943600"/>
            <a:ext cx="466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f11a"/>
                </a:solidFill>
                <a:latin typeface="Cooper Black"/>
              </a:rPr>
              <a:t>Jimmy, Period 4 Monday, September 20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00200" y="762120"/>
            <a:ext cx="624852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Colorad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8001000" y="4952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248520" y="5334120"/>
            <a:ext cx="42670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0 states,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lorado song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10/7/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www.50states.com/colora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Bold ITC"/>
              </a:rPr>
              <a:t>State name:  Color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Bold ITC"/>
              </a:rPr>
              <a:t>Capital:  Den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Bold ITC"/>
              </a:rPr>
              <a:t>Entered union: August 1, 1876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Bold ITC"/>
              </a:rPr>
              <a:t>Motto:  Nil Sine Num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Bold ITC"/>
              </a:rPr>
              <a:t>Nick name:  Centennial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Bold ITC"/>
              </a:rPr>
              <a:t>Flower:  Rocky mountain columb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Bold ITC"/>
              </a:rPr>
              <a:t>Bird:  Lart Bun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Bold ITC"/>
              </a:rPr>
              <a:t>Song:  Where the columbines g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Bold ITC"/>
              </a:rPr>
              <a:t>Meaning behind name:  From the spanish word “R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Eras Bold ITC"/>
              </a:rPr>
              <a:t>Interesting facts about Colorad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Eras Bold ITC"/>
              </a:rPr>
              <a:t>Very roc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Eras Bold ITC"/>
              </a:rPr>
              <a:t>The state gem is the Aquama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Eras Bold ITC"/>
              </a:rPr>
              <a:t>The Aquamarine is made of a mineral called Rhodo Chro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Colorado: Map and State Flag"/>
          <p:cNvPicPr/>
          <p:nvPr/>
        </p:nvPicPr>
        <p:blipFill>
          <a:blip r:embed="rId1"/>
          <a:srcRect l="0" t="38094" r="0" b="0"/>
          <a:stretch/>
        </p:blipFill>
        <p:spPr>
          <a:xfrm>
            <a:off x="228600" y="3505320"/>
            <a:ext cx="3429000" cy="2862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Colorado: Map and State Flag"/>
          <p:cNvPicPr/>
          <p:nvPr/>
        </p:nvPicPr>
        <p:blipFill>
          <a:blip r:embed="rId2"/>
          <a:srcRect l="0" t="0" r="0" b="63881"/>
          <a:stretch/>
        </p:blipFill>
        <p:spPr>
          <a:xfrm>
            <a:off x="2438280" y="228600"/>
            <a:ext cx="6553440" cy="3367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65720" y="4259160"/>
            <a:ext cx="454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457200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ns Guide to US government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Quick Facts: Colora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9/22/2010, http://bensguide.gpo.gov/3-5/state/colorado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All images Copyright © 1997 - 2000 WriteLine. All Rights Reserved. Denver Skyline"/>
          <p:cNvPicPr/>
          <p:nvPr/>
        </p:nvPicPr>
        <p:blipFill>
          <a:blip r:embed="rId1"/>
          <a:stretch/>
        </p:blipFill>
        <p:spPr>
          <a:xfrm>
            <a:off x="0" y="0"/>
            <a:ext cx="6172200" cy="4114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4419720"/>
            <a:ext cx="6172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stcards from America,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Denver Colorado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9/23/2010,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www.postcardsfrom.com/t1/990816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48520" y="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city of Denver:  A beautiful array of sky scraper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5:33:00Z</dcterms:created>
  <dc:creator>install</dc:creator>
  <dc:description/>
  <dc:language>en-US</dc:language>
  <cp:lastModifiedBy>install</cp:lastModifiedBy>
  <dcterms:modified xsi:type="dcterms:W3CDTF">2010-10-14T15:23:36Z</dcterms:modified>
  <cp:revision>12</cp:revision>
  <dc:subject/>
  <dc:title>Slide 1</dc:title>
</cp:coreProperties>
</file>